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3D1-2598-4EB9-961E-C2FE3C5E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099-E4A8-43CF-9FE4-55F6E1D8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181-F875-4657-AC02-ACED745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04E-0D38-426E-97C9-957BA24E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43DA-D320-46F6-8B1E-36FD7DEA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1DB-8DE6-4E1B-9E1A-9E937FFF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C33-D06C-4435-B71C-3D6A813F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68BC-D3A9-45F5-9633-EFA34A7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05A6-54C2-43FF-8603-527D166D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6474-9908-42EA-BFC6-26AB9AE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9E9-FD8B-4587-B47A-81CD76F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08E-18A4-4715-B0AF-DC16D5E4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5AE2-3E80-4A5C-817C-7EF0DA4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266E-D96D-49F5-84A4-0A3A863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3A0F-D855-4FB8-A6DA-10F1B92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450-FCFC-4B16-A8DC-F8F03DBE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DDF-ED06-49B8-BAAB-4AC74A03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8B5-6EF9-487F-818B-6C30476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835-4985-434E-801E-AE9FE2A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ED0-2A59-430B-9A6F-E2B8FDD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53-98A9-4576-BBB8-973E8735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1E6-F83D-40BE-A65B-07C8B31B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41B-413F-4F72-B84C-73FCB0A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AA-625F-49D7-9A7A-5C807BC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7762-FE5F-4CEA-B1B1-CF891ECCF57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ACC-C25E-46DE-8269-E8D874EB4A9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Chapter 1</a:t>
            </a:r>
            <a:br>
              <a:rPr sz="48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ntegrating UBD and DI</a:t>
            </a:r>
            <a:br>
              <a:rPr sz="36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Essential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Partnersh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09320" y="3809880"/>
            <a:ext cx="4496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43828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Axiom 5 </a:t>
            </a:r>
            <a:br>
              <a:rPr sz="4400"/>
            </a:br>
            <a:r>
              <a:rPr b="1" lang="en-US" sz="2600" spc="-1" strike="noStrike">
                <a:solidFill>
                  <a:srgbClr val="660066"/>
                </a:solidFill>
                <a:latin typeface="Tahoma"/>
                <a:ea typeface="Times New Roman"/>
              </a:rPr>
              <a:t>Teachers provide opportunities for students to explore, interpret, apply, shift perspectives, empathize, and self assess.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Corolla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All students should be guided and supported in thinking in complex way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ruggling learners do not have to master the basics before they can engage in thinking. For most students, mastery and understanding come through after meaningful interactions                                                                                                         with idea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udents will differ in the level of sophistication of their thinking and understanding at a given tim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Teachers should be prepared to provide opportunity and support to continually develop students’ understandings and capacities as thinker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01000" y="1752480"/>
            <a:ext cx="990720" cy="130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Axiom 6</a:t>
            </a:r>
            <a:br>
              <a:rPr sz="4400"/>
            </a:br>
            <a:r>
              <a:rPr b="1" lang="en-US" sz="2200" spc="-1" strike="noStrike">
                <a:solidFill>
                  <a:srgbClr val="660066"/>
                </a:solidFill>
                <a:latin typeface="Tahoma"/>
                <a:ea typeface="Times New Roman"/>
              </a:rPr>
              <a:t>Teachers, students, and districts benefit by “working smarter” and using technology and other vehicles to collaboratively design, share, and critique units of study.</a:t>
            </a:r>
            <a:br>
              <a:rPr sz="22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udents also benefit when teachers share understandings about students’ learning needs, classroom routines, and instructional approaches to ensure that each student develops knowledge, understanding, and skills as fully as possible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A routine part of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collaboration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in academically diverse classrooms should occur between teachers and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specialists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who have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expert knowledge about student needs and instructional approaches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most likely to respond effectively to those students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Technology should be used to address varied learner needs and to assist the teacher in keeping track of student growth toward important curricular goal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924680" y="1752480"/>
            <a:ext cx="955800" cy="12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7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UBD is a way of thinking, not a program.  Educators adapt its tools and materials with the goal of promoting better student understanding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Corollar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Differentiated Instruction is a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ay of thinking, not a formula or recipe.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 The goal is to maximize knowledge, understanding, skill for all learne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Effective DI requires thinking about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om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,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at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we teach,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ere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, an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how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.  The information must also be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relevant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student.  This provides the student with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maximum power as a learner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0120" y="3352680"/>
            <a:ext cx="1276200" cy="112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=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U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derstanding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B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y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D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sig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 =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D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fferentiated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I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struc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at is the logic for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joining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the tw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dels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at are the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big idea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for th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dels, and how do they look in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ctio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43800" y="3962520"/>
            <a:ext cx="137160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eets the demands of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f a rigorous standard based curriculum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the accountability of high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kes tests as well as the increasing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verse needs of students.  Thi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rtnership between UBD and DI is no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ly </a:t>
            </a:r>
            <a:r>
              <a:rPr b="1" i="1" lang="en-US" sz="3200" spc="-1" strike="noStrike">
                <a:solidFill>
                  <a:srgbClr val="545472"/>
                </a:solidFill>
                <a:latin typeface="Tahoma"/>
              </a:rPr>
              <a:t>reasonabl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but </a:t>
            </a:r>
            <a:r>
              <a:rPr b="1" i="1" lang="en-US" sz="3200" spc="-1" strike="noStrike">
                <a:solidFill>
                  <a:srgbClr val="545472"/>
                </a:solidFill>
                <a:latin typeface="Tahoma"/>
              </a:rPr>
              <a:t>essential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help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udents reach their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ximum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otentia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29400" y="4952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“need” each other for th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llowing reason.  Effective classroom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st consistently attend to these fou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lements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om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student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learning environmen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content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conten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How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instruct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133720" cy="155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UB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a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curriculum design mode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lineates guiding application of sou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inciples.  It is about “what we teach”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“how we teach”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about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rocesses and procedur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nsure effective learning for all student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 focuses on “whom we teach” a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ere we teach.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221004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1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The goal of quality curriculum is to develop and deepen student understanding.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 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                  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182880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ll students’ benefit from curriculum that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develops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n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deepens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their understanding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Students require varied support systems to develop a deeper understanding based on individual ability, experience, opportunity, language development, interests and individual growth rate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Arial"/>
              </a:rPr>
              <a:t>Axiom 2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Evidence of student knowledge is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revealed when students apply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knowledge in authentic contexts.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uthentic applications will reveal varyi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degrees of proficiency and sophistication i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students understanding and knowledge of skil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Effective teachers use the students’ presen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level of skill proficiency to provide opportuniti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for them to develop a deeper knowledge and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understanding beyond their present point of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proficiency using varied learning modalit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1349280" cy="121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3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Planning with the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ahoma"/>
              </a:rPr>
              <a:t>end in min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helps you avoid unclear priorities and purposes of textbook coverage and activitie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ll learners benefit from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lear purpose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and priorities of cont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truggling learners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require focu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on essential knowledge, understanding, and skill of a uni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dvanced learners nee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hallenge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142704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4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egular reviews of curriculum and assessment provide quality control and inform needed adjustment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orollari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Results will show </a:t>
            </a:r>
            <a:r>
              <a:rPr b="1" lang="en-US" sz="2600" spc="-1" strike="noStrike" u="sng">
                <a:solidFill>
                  <a:srgbClr val="545472"/>
                </a:solidFill>
                <a:uFillTx/>
                <a:latin typeface="Tahoma"/>
              </a:rPr>
              <a:t>variation</a:t>
            </a: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 among students in essential knowledge, understanding, and skill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Adjustments to curriculum and instruction should be targeted to individuals as well as to the whole clas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Adjustments will require </a:t>
            </a:r>
            <a:r>
              <a:rPr b="1" lang="en-US" sz="2600" spc="-1" strike="noStrike" u="sng">
                <a:solidFill>
                  <a:srgbClr val="545472"/>
                </a:solidFill>
                <a:uFillTx/>
                <a:latin typeface="Tahoma"/>
              </a:rPr>
              <a:t>flexible </a:t>
            </a: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use of teacher attention, materials, student groupings, etc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0120" y="4724280"/>
            <a:ext cx="132084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27:18Z</dcterms:created>
  <dc:creator> johanna martinez</dc:creator>
  <dc:description/>
  <dc:language>en-US</dc:language>
  <cp:lastModifiedBy>North Rockland High School</cp:lastModifiedBy>
  <dcterms:modified xsi:type="dcterms:W3CDTF">2009-12-03T14:09:06Z</dcterms:modified>
  <cp:revision>8</cp:revision>
  <dc:subject/>
  <dc:title>Chapter 1 Integrating UBD and DI An Essential Partnership</dc:title>
</cp:coreProperties>
</file>